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ABA0-BAA7-4D76-884A-DE18DE393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y 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AE17E-392B-4F7D-B94F-74DC64AB95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AF02F-7376-4613-96ED-85781B5387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B1CF1-BC2B-485F-916F-04BAA3CC4B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5EF4F-30CA-466E-AC1E-EFA749AEA8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932F0-20C1-40E1-A942-EC7FB8E594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D6A1C-9C54-4DAA-B8CE-FA33F868C3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AB101-1FCB-4DB5-8A24-35A40FD9D1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5A99A-727C-4A3B-92E9-DA22655343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27CE7-AEB5-43DC-8255-02C476961A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6A97A-9715-44E1-A8A5-1039584520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D8C0D-2333-458F-8138-35F585A18A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3C402-9A11-4FB1-9B46-96D1CE4FC1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-21456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4" marL="1933920" indent="-214560"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5" marL="1933920" indent="-214560"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6" marL="1933920" indent="-214560"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151920"/>
            <a:ext cx="7696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cc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ccff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ccff"/>
                </a:solidFill>
                <a:latin typeface="Arial"/>
                <a:ea typeface="Arial"/>
              </a:rPr>
              <a:t>© The McGraw-Hill Companies, Inc. Permission required for reproduction or display</a:t>
            </a:r>
            <a:r>
              <a:rPr b="0" lang="en-US" sz="900" spc="-1" strike="noStrike">
                <a:solidFill>
                  <a:srgbClr val="00ffff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85800" y="640044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cc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1154-C411-4727-9C47-501018D8437C}" type="slidenum">
              <a:rPr b="0" lang="en-US" sz="900" spc="-1" strike="noStrike">
                <a:solidFill>
                  <a:srgbClr val="00cc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Study of Microbial Structure: Microscopy and Specimen Preparatio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30569-6FF4-48D0-8311-4A1492E64C7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fig2.4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5726160" cy="5627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62120" y="5715000"/>
            <a:ext cx="1523880" cy="429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4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BEB36-B1AA-4247-B982-4A5DB320A1E1}" type="slidenum">
              <a:t>10</a:t>
            </a:fld>
          </a:p>
        </p:txBody>
      </p:sp>
    </p:spTree>
  </p:cSld>
  <p:transition spd="slow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Microscope Resolution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bility of a lens to separate or distinguish small objects that are close together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avelength of light used is major factor in resolutio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horter wavelength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greater resolutio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55C93-50BF-44F8-ADBF-B85A6D61B4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table2.2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126280" cy="2219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69960" y="4613400"/>
            <a:ext cx="78645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orking di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tance between the front surface of lens and surface of cover glass or speci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C5991-C268-4494-B088-E5922AAC0B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fig2.5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8126280" cy="3560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34600" y="5765760"/>
            <a:ext cx="133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866D9-D53E-4B63-86CB-7E818FC7361D}" type="slidenum">
              <a:t>13</a:t>
            </a:fld>
          </a:p>
        </p:txBody>
      </p:sp>
    </p:spTree>
  </p:cSld>
  <p:transition spd="slow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fig2.6" descr=""/>
          <p:cNvPicPr/>
          <p:nvPr/>
        </p:nvPicPr>
        <p:blipFill>
          <a:blip r:embed="rId1"/>
          <a:stretch/>
        </p:blipFill>
        <p:spPr>
          <a:xfrm>
            <a:off x="507960" y="1325520"/>
            <a:ext cx="8126280" cy="4206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34600" y="5613480"/>
            <a:ext cx="133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6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F240D-BB37-481F-901F-82A687290FFF}" type="slidenum">
              <a:t>14</a:t>
            </a:fld>
          </a:p>
        </p:txBody>
      </p:sp>
    </p:spTree>
  </p:cSld>
  <p:transition spd="slow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The Dark-Field Microscope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duces a bright image of the object against a dark background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d to observe living, unstained preparation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50EB2-FCDA-4DDB-9096-4BE83E2794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fig2.7b" descr=""/>
          <p:cNvPicPr/>
          <p:nvPr/>
        </p:nvPicPr>
        <p:blipFill>
          <a:blip r:embed="rId1"/>
          <a:stretch/>
        </p:blipFill>
        <p:spPr>
          <a:xfrm>
            <a:off x="2971800" y="457200"/>
            <a:ext cx="5165640" cy="5943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838800" y="5918040"/>
            <a:ext cx="147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7b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0B85C-7A8E-4A5D-BB1D-690ED3F8C374}" type="slidenum">
              <a:t>16</a:t>
            </a:fld>
          </a:p>
        </p:txBody>
      </p:sp>
    </p:spTree>
  </p:cSld>
  <p:transition spd="slow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The Phase-Contrast Microscope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hances the contrast between intracellular structures having slight differences in refractive index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cellent way to observe living cell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2E061-39B1-42E1-AD15-FBEBDDC3C7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3200" y="5918040"/>
            <a:ext cx="133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9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fig2.9" descr=""/>
          <p:cNvPicPr/>
          <p:nvPr/>
        </p:nvPicPr>
        <p:blipFill>
          <a:blip r:embed="rId1"/>
          <a:stretch/>
        </p:blipFill>
        <p:spPr>
          <a:xfrm>
            <a:off x="2362320" y="533520"/>
            <a:ext cx="4535280" cy="5668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18EDF-8E75-4F73-9DF0-487961A3D1B7}" type="slidenum">
              <a:t>18</a:t>
            </a:fld>
          </a:p>
        </p:txBody>
      </p:sp>
    </p:spTree>
  </p:cSld>
  <p:transition spd="slow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fig2.10" descr=""/>
          <p:cNvPicPr/>
          <p:nvPr/>
        </p:nvPicPr>
        <p:blipFill>
          <a:blip r:embed="rId1"/>
          <a:stretch/>
        </p:blipFill>
        <p:spPr>
          <a:xfrm>
            <a:off x="507960" y="1216080"/>
            <a:ext cx="8126280" cy="4425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34240" y="5689440"/>
            <a:ext cx="147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1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CF678-FDE6-4511-9840-2A095637EA87}" type="slidenum">
              <a:t>19</a:t>
            </a:fld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Scale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0102" descr=""/>
          <p:cNvPicPr/>
          <p:nvPr/>
        </p:nvPicPr>
        <p:blipFill>
          <a:blip r:embed="rId1"/>
          <a:stretch/>
        </p:blipFill>
        <p:spPr>
          <a:xfrm>
            <a:off x="2614680" y="-361800"/>
            <a:ext cx="3914640" cy="758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E2580-8366-4510-B43E-F1A7168EBD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The Differential Interference Contrast Microscope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reates image by detecting differences in refractive indices and thickness of different parts of specime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cellent way to observe living cell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54C25-53DA-4974-9467-4F673CD37B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The Fluorescence Microscope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poses specimen to ultraviolet, violet, or blue light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pecimens usually stained with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luorochrom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hows a bright image of the object resulting from the fluorescent light emitted by the specime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CF502-00D5-4833-BC1B-9CF515508F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fig2.12" descr=""/>
          <p:cNvPicPr/>
          <p:nvPr/>
        </p:nvPicPr>
        <p:blipFill>
          <a:blip r:embed="rId1"/>
          <a:stretch/>
        </p:blipFill>
        <p:spPr>
          <a:xfrm>
            <a:off x="2971800" y="533520"/>
            <a:ext cx="5099040" cy="5867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296000" y="5918040"/>
            <a:ext cx="1471680" cy="429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1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78BB8-086C-42A5-B18A-4D14513FA2BF}" type="slidenum">
              <a:t>22</a:t>
            </a:fld>
          </a:p>
        </p:txBody>
      </p:sp>
    </p:spTree>
  </p:cSld>
  <p:transition spd="slow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fig2.13cd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8248680" cy="4417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69960" y="5475240"/>
            <a:ext cx="2279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13c and 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9BEFE-4788-40E1-920D-5838F2501410}" type="slidenum">
              <a:t>23</a:t>
            </a:fld>
          </a:p>
        </p:txBody>
      </p:sp>
    </p:spTree>
  </p:cSld>
  <p:transition spd="slow"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Preparation and Staining of Specimens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creases visibility of specime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ccentuates specific morphological featur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eserves specimen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03BD6-40D4-4870-91A8-9DC83F42457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Fixation 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cess by which internal and external structures are preserved and fixed in positio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cess by which organism is killed and firmly attached to microscope slid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at fixin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serves overall morphology but not internal structur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emical fixin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ts fine cellular substructure and morphology of larger, more delicate organism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600BC-91D0-40D9-AAFC-FC0ADDF4416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Dyes and Simple Staining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y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ke internal and external structures of cell more visible by increasing contrast with background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ave two common featur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hromophore group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emical groups with conjugated double bond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ive dye its colo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bility to bind cell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528C3-ED94-4F61-BCB3-6C2DCB559EC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Dyes and Simple Staining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imple staining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single staining agent is used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asic dye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are frequently used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yes with positive charg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.g., crystal viole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5EEFF-E9CD-4421-89CA-2E66EAEBE82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Differential Staining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vides microorganisms into groups based on their staining properti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.g., Gram stai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.g., acid-fast stai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4B0DE-E546-41E0-91FC-A23DB11F6E4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Gram staining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ost widely used differential staining procedur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vides Bacteria into two groups based on differences in cell wall structur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88BB7-0F36-40F3-833A-D50046BC3E0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Discovery of Microorganisms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ntony van Leeuwenhoek (1632-1723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rst person to observe and describe micro-organisms accuratel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fig1.1" descr=""/>
          <p:cNvPicPr/>
          <p:nvPr/>
        </p:nvPicPr>
        <p:blipFill>
          <a:blip r:embed="rId1"/>
          <a:stretch/>
        </p:blipFill>
        <p:spPr>
          <a:xfrm>
            <a:off x="3962520" y="2135160"/>
            <a:ext cx="4495680" cy="3105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099680" y="5246640"/>
            <a:ext cx="147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1.1b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116CE-8FB8-4CB1-9689-2EEC9386F7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fig2.14" descr=""/>
          <p:cNvPicPr/>
          <p:nvPr/>
        </p:nvPicPr>
        <p:blipFill>
          <a:blip r:embed="rId1"/>
          <a:stretch/>
        </p:blipFill>
        <p:spPr>
          <a:xfrm>
            <a:off x="2809800" y="457200"/>
            <a:ext cx="5218200" cy="6019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62840" y="5842080"/>
            <a:ext cx="147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14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1371600"/>
            <a:ext cx="1143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    st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2700360"/>
            <a:ext cx="1198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d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23400" y="4986360"/>
            <a:ext cx="1674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erst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25240" y="4232160"/>
            <a:ext cx="1928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lor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98800" y="5527800"/>
            <a:ext cx="1215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4952520" y="5715000"/>
            <a:ext cx="685800" cy="76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648320" y="6172200"/>
            <a:ext cx="9144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27C96-8B59-40DF-B477-B8475CC1FCF9}" type="slidenum">
              <a:t>30</a:t>
            </a:fld>
          </a:p>
        </p:txBody>
      </p:sp>
    </p:spTree>
  </p:cSld>
  <p:transition spd="slow"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fig2.15c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8132760" cy="4462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34240" y="5765760"/>
            <a:ext cx="1595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15c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16600" y="5791320"/>
            <a:ext cx="453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Escherichia coli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– a gram-negative ro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9A837-6A29-45AE-A008-B83E7CA23E58}" type="slidenum">
              <a:t>31</a:t>
            </a:fld>
          </a:p>
        </p:txBody>
      </p:sp>
    </p:spTree>
  </p:cSld>
  <p:transition spd="slow">
    <p:blinds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Acid-fast staining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articularly useful for staining members of the genus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Mycobacterium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.g.,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Mycobacterium tuberculosi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 causes tuberculo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.g.,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Mycobacterium lepra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 causes lepros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igh lipid content in cell walls is responsible for their staining characteristic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E214D-24FC-4DA3-9882-D7ED4840077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Staining Specific Structures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egative staining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ften used to visualize capsules surrounding bacteria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psules are colorless against a stained background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3048D-B3B2-40ED-A093-B3E8EF0C0BA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Staining Specific Structures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pore staining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ouble staining techniqu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acterial endospore is one color and vegetative cell is a different color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lagella staining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rdant applied to increase thickness of flagella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67E24-5E9F-4DAD-A8F2-20897DA95C6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Electron Microscopy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86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eams of electrons are used to produce images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avelength of electron beam is much shorter than light, resulting in much higher resolutio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fig2.20b" descr=""/>
          <p:cNvPicPr/>
          <p:nvPr/>
        </p:nvPicPr>
        <p:blipFill>
          <a:blip r:embed="rId1"/>
          <a:stretch/>
        </p:blipFill>
        <p:spPr>
          <a:xfrm>
            <a:off x="4724280" y="1523880"/>
            <a:ext cx="3757680" cy="4343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556880" y="6008760"/>
            <a:ext cx="147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2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E9D35-AD04-4311-A6AD-1110616595B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The Transmission Electron Microscope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lectrons scatter when they pass through thin sections of a specime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ransmitted electrons (those that do not scatter) are used to produce imag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nser regions in specimen, scatter more electrons and appear darker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910B1-C830-4935-BEBE-B8E4AF9ED54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fig2.23b" descr=""/>
          <p:cNvPicPr/>
          <p:nvPr/>
        </p:nvPicPr>
        <p:blipFill>
          <a:blip r:embed="rId1"/>
          <a:stretch/>
        </p:blipFill>
        <p:spPr>
          <a:xfrm>
            <a:off x="2962440" y="457200"/>
            <a:ext cx="5181480" cy="6019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143000" y="586728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2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EM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BEEAB-4CA2-4307-BD33-785A01D96F1E}" type="slidenum">
              <a:t>37</a:t>
            </a:fld>
          </a:p>
        </p:txBody>
      </p:sp>
    </p:spTree>
  </p:cSld>
  <p:transition spd="slow">
    <p:blinds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Specimen Preparation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alogous to procedures used for light microscopy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or transmission electron microscopy, specimens must be cut very thi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pecimens are chemically fixed and stained with electron dense material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B41A0-704B-4F97-AFEF-4539B77DF45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Other preparation methods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hadowing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ating specimen with a thin film of a heavy meta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reeze-etching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reeze specimen then fracture along lines of greatest weakness (e.g., membranes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89C0B-A3AD-40FB-90CF-A57DBBF7B05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Lenses and the Bending of Light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ight is refracted (bent) when passing from one medium to another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efractive index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measure of how greatly a substance slows the velocity of ligh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rection and magnitude of bending is determined by the refractive indexes of the two media forming the interfac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6B1DB-8447-4D1D-8E2F-387E978B72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fig2.25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086600" cy="56008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067400" y="6070680"/>
            <a:ext cx="1471680" cy="429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2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E9B63-9CE1-4AB6-88A5-EB06313B6671}" type="slidenum">
              <a:t>40</a:t>
            </a:fld>
          </a:p>
        </p:txBody>
      </p:sp>
    </p:spTree>
  </p:cSld>
  <p:transition spd="slow">
    <p:blinds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18-x05-ebolavirus" descr=""/>
          <p:cNvPicPr/>
          <p:nvPr/>
        </p:nvPicPr>
        <p:blipFill>
          <a:blip r:embed="rId1"/>
          <a:stretch/>
        </p:blipFill>
        <p:spPr>
          <a:xfrm>
            <a:off x="127080" y="507960"/>
            <a:ext cx="8889840" cy="58420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Ebola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C8559-62E0-4E6E-9D5D-66874CFFDEE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21-13b-mutantfruitfly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Fly head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351CE-DBDC-4893-ADC0-6D23709D5AC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The Scanning Electron Microscope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electrons reflected from the surface of a specimen to create imag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duces a 3-dimensional image of specimen’s surface featur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E762F-C022-4B1B-9139-5F25C974F3A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fig2.27" descr=""/>
          <p:cNvPicPr/>
          <p:nvPr/>
        </p:nvPicPr>
        <p:blipFill>
          <a:blip r:embed="rId1"/>
          <a:stretch/>
        </p:blipFill>
        <p:spPr>
          <a:xfrm>
            <a:off x="2819520" y="380880"/>
            <a:ext cx="5236920" cy="6096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143720" y="5918040"/>
            <a:ext cx="147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27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82AFC-F5C1-4EC6-992B-136DFB14EA58}" type="slidenum">
              <a:t>44</a:t>
            </a:fld>
          </a:p>
        </p:txBody>
      </p:sp>
    </p:spTree>
  </p:cSld>
  <p:transition spd="slow">
    <p:blinds dir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Newer Techniques in Microscopy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onfocal microscop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canning probe microscopy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ave extremely high resolutio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n be used to observe individual atom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fig2.20b" descr=""/>
          <p:cNvPicPr/>
          <p:nvPr/>
        </p:nvPicPr>
        <p:blipFill>
          <a:blip r:embed="rId1"/>
          <a:stretch/>
        </p:blipFill>
        <p:spPr>
          <a:xfrm>
            <a:off x="4876920" y="1828800"/>
            <a:ext cx="3493800" cy="4038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709160" y="5932440"/>
            <a:ext cx="147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2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E3850-43BC-49B7-9977-C4DF7F99A39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Confocal Microscopy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nfocal scanning laser microscop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aser beam used to illuminate spots on specime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mputer compiles images created from each point to generate a 3-dimensional imag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D7384-F0DB-4422-8E59-1F3B6192BA1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fig2.29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7873920" cy="53863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09480" y="5943600"/>
            <a:ext cx="1676520" cy="429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29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81A9D-8746-40CA-8A24-E51A14949746}" type="slidenum">
              <a:t>47</a:t>
            </a:fld>
          </a:p>
        </p:txBody>
      </p:sp>
    </p:spTree>
  </p:cSld>
  <p:transition spd="slow">
    <p:blinds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fig2.30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291440" cy="50482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915120" y="5842080"/>
            <a:ext cx="147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3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0B35A-A6DB-4F38-91CB-9A3891F8BA0B}" type="slidenum">
              <a:t>48</a:t>
            </a:fld>
          </a:p>
        </p:txBody>
      </p:sp>
    </p:spTree>
  </p:cSld>
  <p:transition spd="slow">
    <p:blinds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Scanning Probe Microscopy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canning tunneling microscop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eady current (tunneling current) maintained between microscope probe and specime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p and down movement of probe as it maintains current is detected and used to create image of surface of specime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C58B7-FE7F-48EB-9DA4-3C508533E5C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Lenses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ocus light rays at a specific place called th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ocal point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stance between center of lens and focal point is th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ocal length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rength of lens related to focal length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hort focal length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re magnificatio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F9F1C-4E5B-4991-BFA4-2ABF1594EA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Scanning Probe Microscopy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tomic force microscop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harp probe moves over surface of specimen at constant distanc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p and down movement of probe as it maintains constant distance is detected and used to create imag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41CFD-E160-4461-B2AE-16FF7CF0989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fig2.2" descr=""/>
          <p:cNvPicPr/>
          <p:nvPr/>
        </p:nvPicPr>
        <p:blipFill>
          <a:blip r:embed="rId1"/>
          <a:stretch/>
        </p:blipFill>
        <p:spPr>
          <a:xfrm>
            <a:off x="1447920" y="557280"/>
            <a:ext cx="6248160" cy="5742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523880" y="5867280"/>
            <a:ext cx="16002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gure 2.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0AE51-151C-4958-8899-58301F7597C0}" type="slidenum">
              <a:t>6</a:t>
            </a:fld>
          </a:p>
        </p:txBody>
      </p:sp>
    </p:spTree>
  </p:cSld>
  <p:transition spd="slow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The Light Microscope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ny typ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right-field microscop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ark-field microscop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hase-contrast microscop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luorescence microscop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re compound microscop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mage formed by action of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 lens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372C5-985D-426E-B67F-8607B4D670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The Bright-Field Microscope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duces a dark image against a brighter background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as several objective lens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arfoca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microscopes remain in focus when objectives are changed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tal magnificatio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duct of the magnifications of the ocular lens and the objective len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697F1-4F6B-4381-9214-F67DC45D1D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fig2.3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026560" cy="5491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3520" y="5943600"/>
            <a:ext cx="1752480" cy="429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D9A19-FD14-4F74-8907-80F26FEFF6C1}" type="slidenum">
              <a:t>9</a:t>
            </a:fld>
          </a:p>
        </p:txBody>
      </p:sp>
    </p:spTree>
  </p:cSld>
  <p:transition spd="slow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7T19:58:44Z</dcterms:created>
  <dc:creator>John Sherwood</dc:creator>
  <dc:description/>
  <dc:language>en-US</dc:language>
  <cp:lastModifiedBy>Mark S. Davis</cp:lastModifiedBy>
  <dcterms:modified xsi:type="dcterms:W3CDTF">2003-09-04T16:03:31Z</dcterms:modified>
  <cp:revision>15</cp:revision>
  <dc:subject/>
  <dc:title>PowerPoint Presentation  -  Chapter 2</dc:title>
</cp:coreProperties>
</file>